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1FD-DA84-43BF-BC96-6D527914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B39-F55E-455F-8518-1D97FD7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133-CB22-4715-B393-C9370FE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3ED-EE9D-473B-A64A-348E6CD8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E12-5AD5-430F-951D-29A9E52B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933-5B4F-4890-800C-0BC6F752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EB2-2C14-4AF9-ADD6-2762708A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5AD-DDD2-493F-A78E-8E497F2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B94-FDB6-4776-96EE-2FC2794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971-AAD5-4EA0-954F-EC14B68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29F-D42E-4F12-8016-71618172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187-5B25-441D-A833-6C74CC92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CCAC3227-464B-45C2-9D5E-2B3442A8A84F}" type="slidenum"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 Types and Formatted I/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929628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0000"/>
          </a:bodyPr>
          <a:p>
            <a:pPr marL="340200" indent="-34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Spec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decimal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Hexadecim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f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 floating poin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in “scientific no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tring (more on this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decimal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%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Just print a %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ld, %lld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, and long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0200" indent="-34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one conversion specifier for each argument being printed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-34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you use the correct specifier for the type of data you are pr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8288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438280"/>
            <a:ext cx="883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Sequ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(al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\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s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'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q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"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x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h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char specified by hex digits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h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ooo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char specified by octal digits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828800"/>
            <a:ext cx="0" cy="5334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use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ten=10,x=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ch1='o', ch2='f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%% %c%c %d is %f\n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en,ch1,ch2,x, 1.0*x / ten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ut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24880" y="4343400"/>
            <a:ext cx="4252680" cy="2892960"/>
            <a:chOff x="3224880" y="4343400"/>
            <a:chExt cx="4252680" cy="2892960"/>
          </a:xfrm>
        </p:grpSpPr>
        <p:sp>
          <p:nvSpPr>
            <p:cNvPr id="126" name=""/>
            <p:cNvSpPr/>
            <p:nvPr/>
          </p:nvSpPr>
          <p:spPr>
            <a:xfrm>
              <a:off x="3224880" y="6227640"/>
              <a:ext cx="4252680" cy="1008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Why do we need to do thi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We will talk about a better way lat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(Type conversio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038480" y="4343400"/>
              <a:ext cx="914400" cy="1884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Numeric Data with scanf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is the input equivalent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 library function in the &lt;stdio.h&gt;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 format string and parameters, much lik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t string specifiers are nearly the same as those used i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("%d", &amp;x);       /* reads a decimal integer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("%f", &amp;rate);   /* reads a floating point valu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ersand (&amp;) is used to get the “address” of th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C function parameters are “passed by valu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used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x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the value of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assed.  As a result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not know where to put the number it 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bout this in Section 15 (“Function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Numeric Data with scanf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ore than one variable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n1, n2;  float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("%d%d%f",&amp;n1,&amp;n2,&amp;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hite spaces to separate numbers when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5      10      2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rmat st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other characters to separate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("value=%d,ratio=%f", &amp;value,&amp;rati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ide input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=27,ratio=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nd-of-file was reached, it returns EOF, a constant defined in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it returns the number of input values correctly read from standard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Numeric Data with scanf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icky po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reading into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must precede the conversion specifier with an </a:t>
            </a:r>
            <a:r>
              <a:rPr b="1" lang="en-US" sz="2400" spc="-1" strike="noStrike">
                <a:solidFill>
                  <a:srgbClr val="9900cc"/>
                </a:solidFill>
                <a:latin typeface="Courier New"/>
              </a:rPr>
              <a:t>l</a:t>
            </a:r>
            <a:r>
              <a:rPr b="0" lang="en-US" sz="2400" spc="-1" strike="noStrike">
                <a:solidFill>
                  <a:srgbClr val="9900cc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a lower case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ong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uble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 %ld %f %lf", &amp;x, &amp;y, &amp;a, &amp;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llows for conversions between the basic types, implicitly or explici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version uses the cast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y,z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=(float) x;       /* y=10.0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(int) z;          /* x=3   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(int) (-z);      /* x=-3   -- rounded approaching zer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hort int j=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=j*j;                 /* wrong!!!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=(int)j * (int)j;   /* correc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ompiler expects one type at a position, but another type is provided, then implicit convers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during assig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c='a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=c;    /* i  is assigned the ASCII code of ‘a’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conversion – if two operands of a binary operator are not the same type, implicit conversion occ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=5 , j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x=1.0 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x / i;           /* y = 1.0 /  5.0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j / i;            /* y = 1 / 5  so  y = 0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(float) j / i;   /* y = 1.0 / 5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The cast operator has a higher precedenc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izeof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returns the number of bytes in a data type.</a:t>
            </a:r>
            <a:br>
              <a:rPr sz="24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char ......... = %2d byte(s)\n", sizeof(cha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short ........ = %2d byte(s)\n", sizeof(shor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int ........... = %2d byte(s)\n", 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“Size of long long …… = %2d byte(s)\n”, sizeof(long long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long ......... = %2d byte(s)\n", sizeof(long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char. = %2d byte(s)\n", sizeof (unsigned cha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int.. = %2d byte(s)\n", sizeof (unsigned 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short = %2d byte(s)\n", sizeof (unsigned shor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long. = %2d byte(s)\n", sizeof (unsigned long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float ........ = %2d byte(s)\n", sizeof(floa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double ....... = %2d byte(s)\n", sizeof(doubl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long double .. = %2d byte(s)\n", sizeof(long doubl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a previous run of this code on obelix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ch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lo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long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8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char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sh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long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floa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double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8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long double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6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Variables Nam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may contain letters, digits and under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character must be a letter or an under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score can be used but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atch ou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keywords cannot be be used as variable n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5080" y="4495680"/>
            <a:ext cx="724824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esent, hello, y2x3, r2d3, ...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OK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_1993_tar_return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OK but don’t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Hello#there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llegal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houldn’t work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2fartogo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llegal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Simple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ypede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s a new name for an existing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create a new name for a complex ol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ypedef  oldtype  new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 long  int32;    /* suppose we know an int has 32-bit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 unsigned char  byte;  /* create a byte typ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 long double exten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often used with 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s synta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ble Declara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name    varname1, varname2,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 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loa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percent, to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char x,y,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int aLong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AnotherLong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long a_1, a_2, a_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long int b_1, b_2, b_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long int3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32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eclarations appear affects their scope and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re similar to those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 outside of any function are for glob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ust before the main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ble Declara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initialize a variable before us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do so in C is asking for tr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 of an uninitialized variables is undefined in the C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ount;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et aside storage space for cou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 = 0;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tore 0 in cou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done at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percent = 10.0,  rate = 0.5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:  be careful about “out of range err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int value = -25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 compiler does not detect this as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suspect it d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an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declare variables as being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lif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double pi=3.141592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int maxlength=235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int val=(3*7+6)*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are useful for a number of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reader of the code that a value does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reading large pieces of code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compiler that a value does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can potentially compile faste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nstants whenever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You will get errors with the cc compiler --- use th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c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(ne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0760" y="2209680"/>
            <a:ext cx="311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ote: simple compu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s are allow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must be able to evaluate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at 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compi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38400" y="2894040"/>
            <a:ext cx="1485720" cy="6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an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ocessor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n older form of constant which you still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potential for problems, so be careful using th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define CONSTNAME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make pre-processor constants all upper case (conven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define PI 3.14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ally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 preprocessor runs before the compi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it sees the token PI, it substitutes the value 3.1415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is then run with this “pre-processed”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his is danger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etermine the value of a multiply-defined constant (which you are allowed to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ant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constants in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define GRAMS_PER_POUND 4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st int FARFARAWAY = 3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weight_in_grams, weight_in_poun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year_of_birth, age_in_3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your weight in pounds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weight_in_pound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your year of birth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year_of_birt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eight_in_grams = weight_in_pounds * GRAMS_PER_POU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ge_in_3000 = FARFARAWAY - year_of_bir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Your weight in grams = %d\n", weight_in_gram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In 3000 you will be %d years old\n", age_in_3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erals in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s are representations of values of som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llows literal values for integer, character, and floating poi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write the integer in bas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y=-4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discuss base 8 and base 16 literal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literals are specified with a single character in single qu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har ch=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aracters are specified with escap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e discussion of ‘escaped’ characters with the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discuss thes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write the floating poi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loat PI=3.1415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use mantissa/exponent (scientific)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minusPItimes100 = -3.14159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Variables Nam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regarding vari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use variable names that are descri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adopt and stick to a standard naming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t is useful to do this consistently for the entire software developmen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:  variable names starting with an under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d by the operating system and easy to 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:  using uppercase only vari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these are pre-processor macros (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nly a few basic data typ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yte, capable of holding on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er of fixed length, typically reflect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ize of integers on the host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, 32 or 64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recision flo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precision flo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number of qualifiers which can be applied to the bas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7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hort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shorter" int, &lt;= number of bits in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18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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just write "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"longer int", &gt;= number of bits in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12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he same number of bits as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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just write "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extended precision floa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7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 and un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 type with no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t has 32-bits, range from 0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works with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char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from 0 to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igned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from –128 to 127 (8-bit signed valu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imilar to byte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have a fixed size associated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ze can be determined at compi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tor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umbers are highly variable between C compilers and computer architect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that rely on these figures must be very careful to make their code portable (ie. Try not to avoid relying on the size of the predefined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9200" y="2590920"/>
            <a:ext cx="753912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 u="sng">
                <a:solidFill>
                  <a:srgbClr val="9900cc"/>
                </a:solidFill>
                <a:uFillTx/>
                <a:latin typeface="Arial"/>
              </a:rPr>
              <a:t>DATA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900cc"/>
                </a:solidFill>
                <a:uFillTx/>
                <a:latin typeface="Arial"/>
              </a:rPr>
              <a:t>Bytes Requ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letter 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char)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number 100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(int)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number 120.145 (double)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Variab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32-bits or 64-bit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an int has b-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gned int is in range 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2768 .. 32767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32767+1=-327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nsigned int is in range 0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.. 65535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65535+1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rror message is given on this "overflo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-point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IEEE 754 floating poin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(IEEE single): 8 bits exponent, 1-bit sign, 23 bits mant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(IEEE double): 10 bits exponent, 1-bit sign, 53 bits mant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double (IEEE ext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loating point types when really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o a lot of rounding which must be understoo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point operations tend to cost more than intege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32-bi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Keyword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Bytes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28...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,147,483,648...2,147,438,6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2768...323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,147,483,648...2,147,438,6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long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           -9223372036854775808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233720368547758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unsigned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2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unsigned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4,294,967,2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short integer    unsigned short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655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long integer     unsigned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4,294,967,2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pr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E-38...3.4E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pr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E-308...1.8E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used to output information (both data from variables and text) to standard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 library function in the &lt;stdio.h&gt;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 format string and parameters for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format string, arg1, arg2, …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printf("The result is %d and %d\n", a,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 string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 text:  is printed as is without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sequences:  special characters preceeded by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specifiers: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a singl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(usually) that a variable is to be printed at this location in the output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to be printed must appear in the parameters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ing the format string, in the order that they appear in the forma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 SS</cp:lastModifiedBy>
  <cp:lastPrinted>1998-07-26T16:47:22Z</cp:lastPrinted>
  <dcterms:modified xsi:type="dcterms:W3CDTF">2005-09-22T04:16:37Z</dcterms:modified>
  <cp:revision>1414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